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vide scaffolding questions to the participant acting as the one giving feedba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does one-half mean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f you changed the whole? How would you show one-hal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rticipants view the charts in their pair grouping and then return to their seats, ready to discuss what was vie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iscussion question: What did you notice about the different work samples as you circul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BDF5-05E6-481D-8A80-92F174FA3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21A7-2672-4F88-8252-F51265B2D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9AB3-B08F-433E-9AC9-665D5AB42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B64D-C6FF-4560-857F-3D2E20B7B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3ECE-0D92-4E11-BA46-3A3004A8F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1B70-2FD7-4E61-8766-9770F47B8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B3E8-543E-4459-BEDB-C75ADE19A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BB4C-E6F8-4320-B454-2E5F8BA2D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7325-61A3-4DFA-B802-2DEA53FE7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D1A5-3ABF-46B6-8535-42667FB51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2090-44F5-489B-ACF0-6E9C14A99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01D1-9D50-45FD-85D2-463ABDE7A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F2E0-5F11-4006-AEE3-EC1F83944B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pproject.info/Cliparts_Free/Gegenstaende_Free/Clipart-Cartoon-Design-22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533C-FCA5-43C0-BA77-B4DD54D0A0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Minds-On</a:t>
            </a: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759E-D2CB-4771-B3D0-B620EFDD2F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FFA4-691C-411A-AF9F-81202EF233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37160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What is the goal of these a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Distribute one slip of paper to each group memb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Read the statement to yourself and try to determine what the goal may have b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Arial"/>
              </a:rPr>
              <a:t>Discuss with your table gr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135108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at is a </a:t>
            </a:r>
            <a:r>
              <a:rPr b="0" i="1" lang="en-CA" sz="4400" spc="-1" strike="noStrike">
                <a:solidFill>
                  <a:srgbClr val="2b5ca9"/>
                </a:solidFill>
                <a:latin typeface="Arial"/>
              </a:rPr>
              <a:t>learning goal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4184-7741-4A24-8DAC-1C0AE63AE1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600200"/>
            <a:ext cx="792468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In your journal, jot down your own definition of a learning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Compare to the definition in Growing Suc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b5ca9"/>
                </a:solidFill>
                <a:latin typeface="Arial"/>
              </a:rPr>
              <a:t>learning goals. </a:t>
            </a: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Brief statements that describe for a student what he or she should know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be able to do by the end of a period of instruction (e.g., a lesson, series of lessons, or subtas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b5ca9"/>
                </a:solidFill>
                <a:latin typeface="Arial"/>
              </a:rPr>
              <a:t>The goals represent subsets or clusters of knowledge and skills that the student must master to successfully achieve the overall curriculum expec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on: Play Race to Red Gam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5BAA-98F6-4727-89FF-6A2159F623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676520"/>
            <a:ext cx="7848720" cy="37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In pairs, play all three versions of the game using dice and pattern b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Thin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2b5c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What concepts/expectations may be addressed by playing this game;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2b5c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b5ca9"/>
                </a:solidFill>
                <a:latin typeface="Arial"/>
              </a:rPr>
              <a:t>What the learning goal may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Whole group 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1400-ECB9-4353-8AA1-09BC1BB151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769608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5c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Based on the learning goal, what question might you ask to consolidate student lea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b5c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What might a good answer look like (co-construct success criteri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ction..continued: Jacob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33399"/>
                </a:solidFill>
                <a:latin typeface="Arial"/>
              </a:rPr>
              <a:t>Jacob says that every multiple of 6 is a multiple of 3, but not every multiple of 3 is a multiple of 6.  What do you think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olve the problem, create a learning goal and then identify what would make a good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Annotating student respons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Select one student sample that you believe to be a great answer from Jacob’s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Annotate the sample on chart paper explaining what components make it a great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Post chart paper on wall for gallery wa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You will be provided with samples of student work. Generate feedback for one response, based on your cri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What consolidation question(s) might you ask based on the learning goal and student work analysed?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         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Individual journal reflec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333399"/>
                </a:solidFill>
                <a:latin typeface="Arial"/>
              </a:rPr>
              <a:t>A good fisherman knows all the angles.</a:t>
            </a: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 ~Anony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99"/>
                </a:solidFill>
                <a:latin typeface="Arial"/>
              </a:rPr>
              <a:t>How does intentionality lead to GREAT answ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SoftXP</cp:lastModifiedBy>
  <dcterms:modified xsi:type="dcterms:W3CDTF">2011-08-18T15:44:51Z</dcterms:modified>
  <cp:revision>18</cp:revision>
  <dc:subject/>
  <dc:title>&lt;Title&gt;</dc:title>
</cp:coreProperties>
</file>